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4.pct" ContentType="image/x-pict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the </a:t>
            </a:r>
            <a:r>
              <a:rPr b="0" lang="en-US" sz="2800" spc="-1" strike="noStrike">
                <a:solidFill>
                  <a:srgbClr val="00ff00"/>
                </a:solidFill>
                <a:latin typeface="Gill Sans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classroo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660240" y="2690640"/>
            <a:ext cx="3480120" cy="10209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6005520" y="2705040"/>
            <a:ext cx="3316320" cy="1181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927680" y="3057840"/>
            <a:ext cx="298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108160" y="952560"/>
            <a:ext cx="5943600" cy="36986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1485000" y="5001120"/>
            <a:ext cx="718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6th 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grad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Gill Sans"/>
                <a:ea typeface="Gill Sans"/>
              </a:rPr>
              <a:t>scienc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classroom examp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1714680" y="968400"/>
            <a:ext cx="3238200" cy="49878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5791320" y="2425680"/>
            <a:ext cx="2882880" cy="2760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50" name=""/>
          <p:cNvSpPr/>
          <p:nvPr/>
        </p:nvSpPr>
        <p:spPr>
          <a:xfrm>
            <a:off x="6184080" y="5559840"/>
            <a:ext cx="210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he </a:t>
            </a:r>
            <a:r>
              <a:rPr b="0" lang="en-US" sz="3200" spc="-1" strike="noStrike">
                <a:solidFill>
                  <a:srgbClr val="ff8000"/>
                </a:solidFill>
                <a:latin typeface="Gill Sans"/>
                <a:ea typeface="Gill Sans"/>
              </a:rPr>
              <a:t>story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663560" y="3009960"/>
            <a:ext cx="2298960" cy="1587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5791320" y="2425680"/>
            <a:ext cx="2882880" cy="2760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53" name=""/>
          <p:cNvSpPr/>
          <p:nvPr/>
        </p:nvSpPr>
        <p:spPr>
          <a:xfrm>
            <a:off x="1335240" y="5775840"/>
            <a:ext cx="7481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teach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something </a:t>
            </a:r>
            <a:r>
              <a:rPr b="0" lang="en-US" sz="3200" spc="-1" strike="noStrike">
                <a:solidFill>
                  <a:srgbClr val="00ff80"/>
                </a:solidFill>
                <a:latin typeface="Gill Sans"/>
                <a:ea typeface="Gill Sans"/>
              </a:rPr>
              <a:t>hard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while having 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fu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2"/>
          <a:srcRect l="0" t="0" r="319" b="20602"/>
          <a:stretch/>
        </p:blipFill>
        <p:spPr>
          <a:xfrm>
            <a:off x="874800" y="1816200"/>
            <a:ext cx="4027320" cy="2552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6234120" y="1486080"/>
            <a:ext cx="2709720" cy="2031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5672160" y="3968640"/>
            <a:ext cx="3835440" cy="28767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4600" y="5143680"/>
            <a:ext cx="543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00"/>
                </a:solidFill>
                <a:latin typeface="Gill Sans"/>
                <a:ea typeface="Gill Sans"/>
              </a:rPr>
              <a:t>intended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for mellon stud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6843600" y="5054760"/>
            <a:ext cx="31892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086280" cy="23148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2662200" y="977760"/>
            <a:ext cx="3776760" cy="28321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469800" y="2941560"/>
            <a:ext cx="4305240" cy="32306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>
            <a:off x="3949560" y="3759120"/>
            <a:ext cx="4775400" cy="3581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6"/>
          <a:stretch/>
        </p:blipFill>
        <p:spPr>
          <a:xfrm>
            <a:off x="6421320" y="977760"/>
            <a:ext cx="3776760" cy="28321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76120" y="6400800"/>
            <a:ext cx="341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hy not </a:t>
            </a:r>
            <a:r>
              <a:rPr b="0" lang="en-US" sz="3200" spc="-1" strike="noStrike">
                <a:solidFill>
                  <a:srgbClr val="ff8000"/>
                </a:solidFill>
                <a:latin typeface="Gill Sans"/>
                <a:ea typeface="Gill Sans"/>
              </a:rPr>
              <a:t>middl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schoolers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343080" y="736560"/>
            <a:ext cx="4803480" cy="27050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4152960" y="1562040"/>
            <a:ext cx="4524480" cy="25020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660240" y="3289320"/>
            <a:ext cx="4751640" cy="2641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4826160" y="3727440"/>
            <a:ext cx="5067000" cy="28004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98280" y="6222960"/>
            <a:ext cx="4749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hy not </a:t>
            </a: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teach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elementary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students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8640" y="911520"/>
            <a:ext cx="4194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e divided into tea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3518280" y="3312000"/>
            <a:ext cx="3115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reading or mat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5648400" y="4280040"/>
            <a:ext cx="3924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addition, subtraction,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ultiplication, divi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55880" y="4416840"/>
            <a:ext cx="516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letter groups,  A-F, G-L, etc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983840" y="5763240"/>
            <a:ext cx="5266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number groups, 1-5 or 6-1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737160" y="2105640"/>
            <a:ext cx="267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tory or ga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977720" y="1498320"/>
            <a:ext cx="12600" cy="546120"/>
          </a:xfrm>
          <a:prstGeom prst="line">
            <a:avLst/>
          </a:prstGeom>
          <a:ln w="25560">
            <a:solidFill>
              <a:srgbClr val="ff8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977720" y="2717280"/>
            <a:ext cx="12600" cy="544680"/>
          </a:xfrm>
          <a:prstGeom prst="line">
            <a:avLst/>
          </a:prstGeom>
          <a:ln w="25560">
            <a:solidFill>
              <a:srgbClr val="8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673520" y="3911400"/>
            <a:ext cx="292320" cy="57132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4965480" y="3936600"/>
            <a:ext cx="393480" cy="507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531200" y="5295960"/>
            <a:ext cx="0" cy="533520"/>
          </a:xfrm>
          <a:prstGeom prst="line">
            <a:avLst/>
          </a:prstGeom>
          <a:ln w="25560">
            <a:solidFill>
              <a:srgbClr val="cc66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31640" y="2527200"/>
            <a:ext cx="3733920" cy="23241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5587920" y="2500200"/>
            <a:ext cx="3746520" cy="23767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4741560" y="3535200"/>
            <a:ext cx="26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3084480" y="698400"/>
            <a:ext cx="3992760" cy="62229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966600" y="3566160"/>
            <a:ext cx="171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alic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blo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Alice &amp; Workflowy in Science classroom.ppt_media/Alice Presentation - Mobile-1.mov" descr=""/>
          <p:cNvPicPr/>
          <p:nvPr/>
        </p:nvPicPr>
        <p:blipFill>
          <a:blip r:embed="rId2"/>
          <a:stretch/>
        </p:blipFill>
        <p:spPr>
          <a:xfrm>
            <a:off x="2031840" y="2082960"/>
            <a:ext cx="609624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120760" y="1562040"/>
            <a:ext cx="5918400" cy="2108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475720" y="4709160"/>
            <a:ext cx="52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it 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mimic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the way you thin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4575960" y="3672720"/>
            <a:ext cx="100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(click me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2120760" y="1562040"/>
            <a:ext cx="5918400" cy="21081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985320" y="4709160"/>
            <a:ext cx="8181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use </a:t>
            </a:r>
            <a:r>
              <a:rPr b="0" lang="en-US" sz="3200" spc="-1" strike="noStrike">
                <a:solidFill>
                  <a:srgbClr val="ff6666"/>
                </a:solidFill>
                <a:latin typeface="Gill Sans"/>
                <a:ea typeface="Gill Sans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o organize ways to use Ali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rcRect l="0" t="1879" r="0" b="37831"/>
          <a:stretch/>
        </p:blipFill>
        <p:spPr>
          <a:xfrm>
            <a:off x="1994040" y="4749840"/>
            <a:ext cx="189072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463760" y="2103840"/>
            <a:ext cx="72244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ay I </a:t>
            </a:r>
            <a:r>
              <a:rPr b="0" lang="en-US" sz="3200" spc="-1" strike="noStrike">
                <a:solidFill>
                  <a:srgbClr val="6666ff"/>
                </a:solidFill>
                <a:latin typeface="Gill Sans"/>
                <a:ea typeface="Gill Sans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starting with these categor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at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ocial stud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708360" y="2678040"/>
            <a:ext cx="2730600" cy="8017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50920" y="4000680"/>
            <a:ext cx="9651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is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  <a:ea typeface="Gill Sans"/>
              </a:rPr>
              <a:t>educationa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Gill Sans"/>
                <a:ea typeface="Gill Sans"/>
              </a:rPr>
              <a:t>softwar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that teaches students computer programing in a 3D 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108160" y="952560"/>
            <a:ext cx="5943600" cy="3698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749880" y="5150880"/>
            <a:ext cx="865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a </a:t>
            </a:r>
            <a:r>
              <a:rPr b="0" lang="en-US" sz="2400" spc="-1" strike="noStrike">
                <a:solidFill>
                  <a:srgbClr val="00ff00"/>
                </a:solidFill>
                <a:latin typeface="Gill Sans"/>
                <a:ea typeface="Gill Sans"/>
              </a:rPr>
              <a:t>user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Gill Sans"/>
                <a:ea typeface="Gill Sans"/>
              </a:rPr>
              <a:t>interfac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similar to programs like iMovie/moviemak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2"/>
          <a:srcRect l="639" t="39824" r="427" b="0"/>
          <a:stretch/>
        </p:blipFill>
        <p:spPr>
          <a:xfrm>
            <a:off x="1460520" y="1623960"/>
            <a:ext cx="7226280" cy="27320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287000" y="5150880"/>
            <a:ext cx="757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Gill Sans"/>
                <a:ea typeface="Gill Sans"/>
              </a:rPr>
              <a:t>drag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and </a:t>
            </a:r>
            <a:r>
              <a:rPr b="0" lang="en-US" sz="2400" spc="-1" strike="noStrike">
                <a:solidFill>
                  <a:srgbClr val="6666ff"/>
                </a:solidFill>
                <a:latin typeface="Gill Sans"/>
                <a:ea typeface="Gill Sans"/>
              </a:rPr>
              <a:t>drop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commands to create a movie or ga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529080" y="4985640"/>
            <a:ext cx="309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atch </a:t>
            </a:r>
            <a:r>
              <a:rPr b="0" lang="en-US" sz="2400" spc="-1" strike="noStrike">
                <a:solidFill>
                  <a:srgbClr val="00ffff"/>
                </a:solidFill>
                <a:latin typeface="Gill Sans"/>
                <a:ea typeface="Gill Sans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you wor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rcRect l="639" t="0" r="36015" b="39943"/>
          <a:stretch/>
        </p:blipFill>
        <p:spPr>
          <a:xfrm>
            <a:off x="2305080" y="1150920"/>
            <a:ext cx="553716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2438280" y="936720"/>
            <a:ext cx="5270760" cy="37875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82800" y="5303160"/>
            <a:ext cx="638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ill Sans"/>
                <a:ea typeface="Gill Sans"/>
              </a:rPr>
              <a:t>tutorial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 to walk you and students through 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